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7465-084E-4ED7-9108-6BD3FCA7C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E0C5-F42B-4C14-9DF2-B6CC78BF8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E434-23A0-431A-B286-BE89F80AB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7F3D-1E19-44E7-8385-4AE6D5B98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70C4-0AD3-4D1D-B2CE-C6D932A6E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F85A-E45C-4487-8C63-B17AFD6AE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4186-4B2E-4F61-95A9-33B2D4D99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5883-B3CF-4E39-AC56-8C6CAD1B7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902F-46BA-4DC9-B6B2-DA330C5B7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D159-D25D-440C-A7B7-53E189BC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1FDD-B81A-4A2B-8516-8F2B9B23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D89C-93D5-48E0-B82C-CAD6E22D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22F08-4C2B-4482-99A7-2CD82FFC26E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403280" y="2205000"/>
          <a:ext cx="5891400" cy="2160720"/>
        </p:xfrm>
        <a:graphic>
          <a:graphicData uri="http://schemas.openxmlformats.org/drawingml/2006/table">
            <a:tbl>
              <a:tblPr/>
              <a:tblGrid>
                <a:gridCol w="654120"/>
                <a:gridCol w="655560"/>
                <a:gridCol w="654120"/>
                <a:gridCol w="654120"/>
                <a:gridCol w="655560"/>
                <a:gridCol w="654120"/>
                <a:gridCol w="654120"/>
                <a:gridCol w="655560"/>
                <a:gridCol w="65412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719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72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sp>
        <p:nvSpPr>
          <p:cNvPr id="42" name="Textfeld 12"/>
          <p:cNvSpPr/>
          <p:nvPr/>
        </p:nvSpPr>
        <p:spPr>
          <a:xfrm rot="5400000">
            <a:off x="34920" y="2994480"/>
            <a:ext cx="2160720" cy="5814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S</a:t>
            </a:r>
            <a:r>
              <a:rPr b="1" lang="de-DE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T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feld 3"/>
          <p:cNvSpPr/>
          <p:nvPr/>
        </p:nvSpPr>
        <p:spPr>
          <a:xfrm rot="5400000">
            <a:off x="6521400" y="2994480"/>
            <a:ext cx="2160720" cy="5814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Z</a:t>
            </a:r>
            <a:r>
              <a:rPr b="1" lang="de-DE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14:45:58Z</dcterms:created>
  <dc:creator>Susanne Epp</dc:creator>
  <dc:description/>
  <dc:language>en-US</dc:language>
  <cp:lastModifiedBy>Anika</cp:lastModifiedBy>
  <dcterms:modified xsi:type="dcterms:W3CDTF">2017-09-29T12:26:38Z</dcterms:modified>
  <cp:revision>17</cp:revision>
  <dc:subject/>
  <dc:title>Folie 1</dc:title>
</cp:coreProperties>
</file>